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ECECC-8E06-420E-9909-F25B2D8994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C0490-F4FB-4892-9B5F-99D35BB1D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13D-6431-47DA-A318-B329CA32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744-AAE0-4138-B248-4CC9C0DA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095-4A78-405F-AB2C-D188F9D4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4D8-D519-4A38-BF37-A5C2FBF2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83B-8863-4BBE-BBB8-846FA54F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C21-5250-4AFA-86DE-77234922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89A-E554-4F39-9BBE-AC4ACC9A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1CD-F9DD-4488-83FB-5A34756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B6B-A0F9-46F4-BCCB-04BFA0F1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FCC-FF13-4E7E-97F8-DCF1996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079-98E1-4A0D-9FEB-573328E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CB5-04A6-40CF-BC63-4608CE6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9282-9A8E-4B52-9129-57A028ECA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113200" y="2379600"/>
            <a:ext cx="587448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ome In Heav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7640" y="6227640"/>
            <a:ext cx="2311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92040" y="465120"/>
            <a:ext cx="9688680" cy="69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c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on't let me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'll wipe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ars from my e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eaven,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92040" y="465120"/>
            <a:ext cx="9688680" cy="69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ever to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been for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m on my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his 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ll see my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e to 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eaven,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92040" y="465120"/>
            <a:ext cx="9688680" cy="69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ough I once was l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esus, he found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 blood 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get to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ll see you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eaven,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1-04-15T17:53:20Z</dcterms:modified>
  <cp:revision>5</cp:revision>
  <dc:subject/>
  <dc:title>Slide 1</dc:title>
</cp:coreProperties>
</file>